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A768-1520-4504-9AAF-F06B366A77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qu’ici, le QCM a plutôt été écarté des pratiques d’évaluation en SVT, au profit des questions ouvertes, associées à une grande variété d’autres outils plus proches d’une activité authentiquement scientif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 aux questions ouvertes, elles ont l’avantage de laisser l’élève autonome dans son raison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seules exceptions concernent des opérations d’évaluation nationale ou internationale, où le QCM est préféré pour ses qualités de correction rapide et uni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tant, l’enseignement des mathématiques a franchi le pas de l’utilisation des QCM, rien moins que comme partie de l’épreuve de baccalauréat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QCM fleurissent dans les manuels scolaires, et certains professeurs y sont attach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rs, que penser des QCM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préparer cette présentation, j’ai lancé un questionnement sur le forum SVT de Créteil : j’ai obtenu une dizaine de réponses en trois jours, souvent riches et détaill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'utilisation en évaluation diagnostique ou en préparation de contrôle, en autocorrection 4 ou  comm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int de départ de discussion avec les élèv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QCM permettent aux élèves les plus en difficulté de MLF de répondre "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arce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qu'ils passent plus de temps à réfléchir qu'à écri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" 1 [cela répond tout à fait à l'un des arguments de l'inspection de mathématiques, qui est de dissocier le raisonnement de sa rédaction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possibilité de cibler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mplement et directement les notions essentiell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'un chapitr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ifficulté d'écrire des questions et propositions exemptes d'ambiguït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"subtilité" du Q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Par exemple, des professeurs utilisent les QCM des manuels, mais en adaptant le vocabulaire à leur pratique ou en faisant discuter les formulations par les élève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ueur d'élabo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'un QCM fiable 3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« ça ne peut pas se faire tout seul ». « Surtout, ne pas le préparer la veille du contrôle »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formatif, l'exposition des élèves à d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irmations fausses qu'ils risquent de mémori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. Ce qui rejoint l’avis d’un pédagogue : Pour Skinner «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ute solution fausse, dans un test à choix multiple, augmente la probabilité qu’un étudiant extraie un jour de sa mémoire défaillante la réponse incorrecte au lieu de la réponse correc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 (Leclercq, 19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'image "jeu de hasard" pour les élèv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/ l'utilisation du côté ludique pour créer l'émulation dans la classe (un professeur prévoit même la distribution de cadeau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imitation pour les élèves les meilleur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qui ne peuvent s'exprimer au-delà des propositions pré-rédigée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que question porte su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 se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'apprentissage. La construction d'un tableau de spécification est importante  (il croise la notion testée avec le type d'objectif poursui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'énoncé recherche 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g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 plus simple et le plus clair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onne réponse e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ontestablement exac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t 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mi le choix de pro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 de la bonne répon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rie de façon aléatoire tout au long du question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propositions son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ogè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ns leur contenu, leur forme et leur structure grammat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s l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acteu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on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usib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que question e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épendan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u sens où elle n'aide pas à répondre à une autre question du question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nair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semble d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haque ques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u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semble de répo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st propo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questionn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is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 ou les bonne(s) réponse(s) parmi ces pro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vrai / f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question comprend un énoncé (ou proposition). Le questionné doit indiquer s'il est vrai ou faux. Le choix est réduit à une alternative si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question à appari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questions à appariement, consistent à mettre en relation des propositions fournies dans deux listes distinctes. Dans les questions à appariement, il s’agit de faire correspondre un élément de la liste (les solutions proposées) à un élément de l’autre liste (les ques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question de type ré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question de réarrangement : une série de propositions est présentée dans un ordre fixé au hasard ou selon des règles sans rapport avec le problème. L’apprenant doit les placer dans un ordre conforme à un mode d'organisation indiqué en précisant par des lettres ou des nombres cet or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 exemp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assez dans l'ordre chronologique d'apparition les 8 stades de développement de la vigne présentés ci-après 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 : nouaison  B : véraison C : sortie des feuilles D : débourrement E : arrêt de croissance F : grappes visibles G : floraison H : matur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igine militaire et américaine (ce qui n’est pas une bonne étoile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emière guerre mondiale : les "Army Tests" utilisés par le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sychométricie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pour sélectionner les futurs officiers et sous-officiers parmi les mobilisé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pect prégnant d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est psychométr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cf. les tests de Q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tion de calcul d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pour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lasser des candida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ou pour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e situer dans une série d'essai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pratique en autoé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960 : les facultés de médecine : méthode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« permettant une correction des épreuves à la fois rapide, uniforme et objective »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Grand Larousse, 196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de de la route -  Tests psychologiques pour les entretiens d'embauche - Concours administrati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partie de l'épreuve de mathématiques au baccalauré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 d’œil historique et respectueuses salutations aux anci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’outil informati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pidement été associé aux test de type QCM … et a contribué à leur dévalorisation (crainte d’un enseignement « presse bouton 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itte HAZARD me rappelait hier qu’il y a eu toute une réflexion sur les QCM associée aux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éférentiels de secon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enir et corriger un grand nombre de réponses en peu de te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iger ce grand nombre de réponses de façon uniforme et objectiv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limine certains obstacles mis en évidence par la docimolog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sant que le correcteur peut modifier son comportement en cours de correction, comme l'effet d'ancre, la constante macabre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interrogation par un grand nombre de questions permet de recouvrir un grand nombre de points et, par conséquent, permet une meilleure évaluation des connaissances réelles du candid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 là même, contribue en principe à améliorer la validité, la fidélité et la sensibilité d’un exa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l'argumentaire de l'IGEN de mathématiques pour le bac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èvet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 la réponse, 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icité et l’objectivité de la corre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ossibilité d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en couvrir un champ détermin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se en compte d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s de raisonnement diversifié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isjonction, élimination de cas)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repérage plus précis des difficulté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valorisation d’un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éaction rap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valorisation de 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e d’initiative et de l’esprit criti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rédaction de la formulation correcte est longue (rigueur, concision, indépendance des habitudes propres à l'auteur…) : le plus souvent, l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eurs reformulent les Q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 manuels ou trouvés sur Interne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est difficile de trouver des réponses fausses (distracteurs) crédibles et pertinentes : s’appuyer sur d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eurs classiq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 élèves (passer des corrections de questions ouvertes aux QCM)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faut compter au moins une heure pa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ne s'aperçoit de certains malentendus de questions ou de propositions de réponses qu'aprè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 avoir discuté avec des élè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h, ça voulait dire ça !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F43-3693-420C-8A05-2FE17054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B2A-B539-4A51-9649-6958B373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124-118B-4165-A8D2-7B991D76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576-E491-49D2-B351-3F1E867E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8CD93-DC86-45B0-8FF9-30D424E4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882E1-C0BB-485B-804E-7E493F14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28C39-F031-4C01-9E70-C6D9E10D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3982F-8F42-4ACD-A757-0296A496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DB3F1-964B-491F-BF51-7398863B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F3B76-E55C-44DE-AAC4-7D2A78E1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97B3C-A784-41C6-9EDF-3488530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1B7-AD9A-4661-B731-7BBEC9AA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07104-CA32-4314-A634-4224A8A0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67A74-A0CA-467E-BAFF-74306D02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053E-6335-4CDF-8258-E99C6DF8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A17AC-2470-4E25-93AB-CF050825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52A85-D85E-4954-B91D-D12C6DD6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BA6-AE37-47FB-BE66-26EDDA3E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D6B-4B0D-425A-9E09-CF27FEFF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270-F664-4641-A88D-130E964E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AE7-E332-4F82-85AC-985948B1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C9B-EBD0-4A25-95EF-7D15AD90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058-FE11-4CCD-A0D3-B198EB35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7D7-06DA-49A4-93D3-BBD799FF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46E0-1AAD-4824-AAC3-9E85DDF51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3EEB-1F31-4070-8175-597DA9C56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 Q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outil d’évaluation utilisable en SV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’en pensent les professeur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 qu’aiment les partisans des Q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tic, préparation de contrôles, discuss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utocorrection et entraînement en autonom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ire répondre les élèves les plus en difficulté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ibler simplement et directement l’essenti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apidité et uniformité de correc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éparer à une forme d’évaluation que les élèves rencontreront plus tar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’en pensent les professeur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 qui est redou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a difficulté d’écrire des questions et des propositions sans ambiguïté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a longueur d’élaboration d’un QCM fiab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’impact sur l’évaluation des réponses aléatoir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’exposition à des réponses fausses qui peuvent être mémorisé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’en pensent les professeur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 qui est débat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’image d’une évaluation loter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limitation des réponses proposées pour les élèves les meill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ègles de base pour un Q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icité et importance de l’objectif de chaque ques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 langage le plus simple et le plus clair possib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a bonne réponse est incontestable et uniqu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lace aléatoire de la bonne répons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s propositions sont homogè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us les distracteurs sont plausibles et faux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aque question est indépendan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’est-ce qu’un Q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 questionnai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our chaque question, plusieurs proposi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 questionné choisit une seule proposi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 formes d’évaluation vois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vrai / fa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 choix réduit à une altern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question à appari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e en relation de propositions fournies dans deux listes distinc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question de réarran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onner une série de propositions fournies dans un ordre aléato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rigine des Q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s «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y Test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 » de la première guerre mondi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Franc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960, les facultés de méde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e permis de condui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Des tests psycholog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Des entretiens d’embauc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Des concours administrati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 SVT, vingt ans avan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11090" t="4824" r="14376" b="68531"/>
          <a:stretch/>
        </p:blipFill>
        <p:spPr>
          <a:xfrm>
            <a:off x="1085760" y="1197000"/>
            <a:ext cx="3503880" cy="482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7139" t="12832" r="4507" b="24008"/>
          <a:stretch/>
        </p:blipFill>
        <p:spPr>
          <a:xfrm>
            <a:off x="4648320" y="2205000"/>
            <a:ext cx="4038480" cy="330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vantages du Q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tenir et corriger beaucoup de réponses en peu de te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iger de façon uniforme et 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vrir un champ étendu de savo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éliorer la validité, la fidélité, la sensibilité d’une é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convénients du Q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é à certains objecti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 connaissances (mémoris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ompréhension (interprétation de donné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’explication (résolution de problè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convénients du Q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apté à d’autres objecti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se et synthèse : items très difficiles à constru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accessibles aux capacités d’expression et aux capacités 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ès limité pour comportements et attit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convénients du Q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s d’élaboration très impor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ueur de la rédaction de la formulation correc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iculté de trouver des distracteurs crédibles et perti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ter plus d’une heure par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et étalonnage indispensables avec des élè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-Marie Lépouchard          Journée nationale inspection SVT            06 mai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0:27:55Z</dcterms:created>
  <dc:creator>LEPOUCHARD</dc:creator>
  <dc:description/>
  <dc:language>en-US</dc:language>
  <cp:lastModifiedBy>LEPOUCHARD</cp:lastModifiedBy>
  <dcterms:modified xsi:type="dcterms:W3CDTF">2009-05-05T20:19:24Z</dcterms:modified>
  <cp:revision>5</cp:revision>
  <dc:subject/>
  <dc:title>Le QCM</dc:title>
</cp:coreProperties>
</file>